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9F1-30D1-4A47-956E-EE433492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DE0-999D-4610-90C6-4E85CED3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9C7-487F-47F7-9852-861E1E1D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80C-2E40-4A22-9F41-CD4DA938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629-CCCB-4A5E-B6F9-7D0E8C3F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825-6A63-4A2F-80CE-923BEC08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056-B5D6-4C90-8C20-CA3F119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DEE-D18E-4682-83CC-71106CE6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BAB-4F39-4B75-9E5E-47DC2F13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B6C-6093-4E0A-9E13-EE7A801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AA8-2EAA-4D75-9FBB-C9FD51F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3EC-77B2-40C8-B34B-6BC9AA8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3A7A-9306-40C0-9CBD-64C2F5CAF00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urriculum Making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he What, Who, and Why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In Tyler’s view, each school has own set of values and these are imbedded in the curriculum of that school.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819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herefore, he proposed that a school develop a statement of educational philosophy and it be used to screen the objectives that were developed.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ontroversy over term “Objectives”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Tyler used term “objectives” and suggested we start with defining our objectives – Today these would be called “outcomes”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Many thought in behavioral objective terms rather than goals or aims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2666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yler did advocate the use of objectives – and behavioral objectives have become the cornerstone of curriculum decision-making and teaching strategies.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83988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ince the real purpose of education is not to have the instructor perform certain activities but to bring about significant changes in the students' pattern of behaviour,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it becomes important to recognize that any statements of objectives of the school should be a statement of changes to take place in the students.”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  (Tyler 1949: 44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yler in a Nutshell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tate objectiv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elect learning activiti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Organize learning activiti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evelop evaluation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So, if you have to write daily objectives or outcomes, thank Ralph W. Tyl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riticism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Focus on objectiv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Many suggest that we start with ideas and belief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tudents are not included in proces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Learning can be organized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AC Futura Casual"/>
              </a:rPr>
              <a:t>John Franklin Bobbitt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4514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John Bobbitt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Advocated education that was useful for promoting society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Advocate of vocational education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Questioned the need for many traditional cours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ree Traditional Approaches to Curriculum Development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as Proces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as Praxi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as Product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AC Futura Casual"/>
              </a:rPr>
              <a:t>John Franklin</a:t>
            </a: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 Bobbitt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"As agencies of social progress, schools should give efficient service.  And efficient service, we are nowadays coming to know, is service directed, not by guess or whim or special self-interest, but by science."  (Kliebard, p 101)  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John Goodlad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738600" y="2314440"/>
            <a:ext cx="18730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John Goodlad – three levels of curriculum making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Instructional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Decisions made by teachers and student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John Goodlad – three levels of curriculum making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Institutional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School, school district, state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John Goodlad – three levels of curriculum making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Societal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Money supplied by citizen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     </a:t>
            </a: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Michael Apple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ltural reproduction”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83" name="" descr="Michael Apple"/>
          <p:cNvPicPr/>
          <p:nvPr/>
        </p:nvPicPr>
        <p:blipFill>
          <a:blip r:embed="rId2"/>
          <a:stretch/>
        </p:blipFill>
        <p:spPr>
          <a:xfrm>
            <a:off x="6019920" y="1219320"/>
            <a:ext cx="15523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Michael Apple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Each new generation learns the social patterns and power relations of the prior one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We learn to be part of the system and our proper role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Michael Apple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Knowledge is cultural capital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Often done through hidden curriculum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ecker Walk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eliberative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087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Decker Walk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One of the authors of your textbook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tudied the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CAC Futura Casual"/>
              </a:rPr>
              <a:t>process</a:t>
            </a: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 of curriculum development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1949 – Movement  to a Scientific Approach to Curriculum Making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Decker Walk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Used term “naturalistic” because he described how curriculum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CAC Futura Casual"/>
              </a:rPr>
              <a:t>was actually</a:t>
            </a: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 developed rather than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CAC Futura Casual"/>
              </a:rPr>
              <a:t>how it should be</a:t>
            </a: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 developed.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Planning ha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ree Part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Platform – approach the task with our ideas, convictions, and beliefs.  Everyone gets an opportunity to talk, discuss, and even argue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Planning ha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ree Part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Deliberation – Move away from individual beliefs to assessing possible points of action- Feelings can run high and the process can seem chaotic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urriculum Planning ha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ree Part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esign – Group achieves consensus so that a course of action is accepted. 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Walker’s Model 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396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Criticism of Walker’s Model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tudied only large scale processes – not individual teachers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Doesn’t address what happens after curriculum is designed and implemented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lliott W. Eisn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Artistic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1316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Believes in artistry of teaching and helping teachers develop that art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Suggests that process of curriculum development is convoluted, circuitous, and adventitiou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1. Goals and their priorities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743040" indent="-28584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Does not think it is always possible to define specific objective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-838080">
              <a:spcBef>
                <a:spcPts val="1100"/>
              </a:spcBef>
              <a:buClr>
                <a:srgbClr val="ffffcc"/>
              </a:buClr>
              <a:buSzPct val="80000"/>
              <a:buFont typeface="CAC Futura Casu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Content of the Curriculum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1219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*  Consider the needs of individual students, society, and subject matter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Ralph W. Tyl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Rational-Linear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71800" y="30481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04240" indent="-804240">
              <a:spcBef>
                <a:spcPts val="1001"/>
              </a:spcBef>
              <a:buClr>
                <a:srgbClr val="ffffcc"/>
              </a:buClr>
              <a:buSzPct val="80000"/>
              <a:buFont typeface="CAC Futura Casu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Types of Learning Opportunities - 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1" marL="1170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education imagination must come into play in order to transform goals and contents into events that will have educational consequences for students”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4.  Organization of Learning Opportunities – Like a spider web – suggest that learning is not linear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5.  Organization of Content Areas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lvl="1" marL="1219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*  Emphasis on cross-curricular organization of content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1" marL="1219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219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6.  Mode of Presentation and Mode of Response – suggests a wide variety of modes of presentation to meet various learning styles 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Eisner’s Seven Step Approach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219320" indent="-762120">
              <a:spcBef>
                <a:spcPts val="1001"/>
              </a:spcBef>
              <a:buClr>
                <a:srgbClr val="ffffcc"/>
              </a:buClr>
              <a:buSzPct val="80000"/>
              <a:buFont typeface="CAC Futura Casu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Types of Evaluation Procedure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lvl="2" marL="1600200" indent="-685800">
              <a:spcBef>
                <a:spcPts val="901"/>
              </a:spcBef>
              <a:buClr>
                <a:srgbClr val="ffffcc"/>
              </a:buClr>
              <a:buSzPct val="80000"/>
              <a:buFont typeface="CAC Futura Casu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Not viewed as final step but viewed as something  pervades the entire process.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Ralph W. Tyl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1949 – became the most prominent name in curriculum studies 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marL="339480" indent="-339480">
              <a:spcBef>
                <a:spcPts val="100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C Futura Casual"/>
              </a:rPr>
              <a:t>Advocated the evaluation of student behaviors to determine education failure or success</a:t>
            </a: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Ralph W. Tyler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Theory is called “the dominant model of the twentieth century 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C Futura Casual"/>
              </a:rPr>
              <a:t>Wrote “Basic Principles of Curriculum and Instruction”</a:t>
            </a: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Four Fundamental Questions in Designing Curriculum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1. What educational purposes should the school seek to attain?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2.What educational experiences can be provided that are likely to attain these purposes?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Four Fundamental Questions in Designing Curriculum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2666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3. How should learning experiences be organized.  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AC Futura Casual"/>
              </a:rPr>
              <a:t>4. How can we determine whether these purposes are being attained?</a:t>
            </a:r>
            <a:endParaRPr b="0" lang="en-US" sz="36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C Futura Casual"/>
              </a:rPr>
              <a:t>Tyler never suggested what the aims or objectives should be!  He did not advocate a particular curriculum.</a:t>
            </a:r>
            <a:endParaRPr b="0" lang="en-US" sz="4800" spc="-1" strike="noStrike">
              <a:solidFill>
                <a:srgbClr val="ffffcc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14:04:03Z</dcterms:created>
  <dc:creator>User</dc:creator>
  <dc:description/>
  <dc:language>en-US</dc:language>
  <cp:lastModifiedBy>Carlette Hardin</cp:lastModifiedBy>
  <dcterms:modified xsi:type="dcterms:W3CDTF">2005-10-22T13:39:50Z</dcterms:modified>
  <cp:revision>6</cp:revision>
  <dc:subject/>
  <dc:title>Procedures for Curriculum Making </dc:title>
</cp:coreProperties>
</file>